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2BB-A5DA-4669-9EF6-F5561A4C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0F4-7E54-4EF6-8564-1625EE5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456-142E-4A5E-90E9-B5737B6E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748-EA54-4ACA-9ACC-50CAF635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EBB-DFDD-4B8D-BB34-64AFFBF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236-C56A-44A3-A63E-896DEDCC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6C6-114B-47D3-8FE4-9241AE78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E68-A189-4F9A-8BD7-28217043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ECB-5A90-4106-A47E-27D57702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7AB-DBC8-492D-960D-36AEBDF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585-DBC5-4CAD-B5FA-22386A3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D2A-935D-43A2-9470-BEC57AB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F34-061B-4288-B83C-84E8C0CE5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écrit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ableau avec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liquide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tyl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nition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lè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4300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épa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a co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pay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j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jo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rti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font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e de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nt autour de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62120" y="914400"/>
            <a:ext cx="76197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st dans le seu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 de la nouvel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né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ys du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gné l’indépend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de l’aut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“Pa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criture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eur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auv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ê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ani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vert de plu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arr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tre l’ex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mai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’intéri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carpement litto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û à l’action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onym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à l’affû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066680" y="1219320"/>
            <a:ext cx="7239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rome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ès lent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sembl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nettoy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arqu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signif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donn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066680" y="1981080"/>
            <a:ext cx="72392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se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auco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rif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de; il n’y 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spa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 Id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écri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ç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d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ù ça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la fin 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es, le Port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ymbole doi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action d ’Akrom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a reç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le symbol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tie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Bin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blè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ç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gr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é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t le monde a le dr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être éduq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un esprit de …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aît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en tr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enseig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matière?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ve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sauvé par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nfant a cach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iseau o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crou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nquill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redevi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ra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moqu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spic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endroit secr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ber en pièc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Être détru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ynon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part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ont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rç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 débu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recteur 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bu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in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rmi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frère d’Akro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 par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Zi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 vont-ils les garç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éloignent de Climbié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eint Climb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retou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éc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qui parl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kroman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mbié lui a refil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numéro le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Page d’écritur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pit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eviennent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age d’Ecri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’Afrique francopho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À l’éco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a co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ns 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iss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pay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ancophone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Afrique 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urs capita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akar, Sénég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amoussokra, Côte d’Ivo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angui,  Rép. Centrafrici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, 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bat, 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élè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s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Administrator</cp:lastModifiedBy>
  <dcterms:modified xsi:type="dcterms:W3CDTF">2014-05-29T18:55:07Z</dcterms:modified>
  <cp:revision>146</cp:revision>
  <dc:subject/>
  <dc:title>No Slide Title</dc:title>
</cp:coreProperties>
</file>